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62400" cy="4114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4C12-048B-432A-8D7A-3808C4881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163680" y="3660480"/>
            <a:ext cx="35736120" cy="685620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ctr">
            <a:noAutofit/>
          </a:bodyPr>
          <a:p>
            <a:pPr indent="0" algn="ctr">
              <a:buNone/>
              <a:tabLst>
                <a:tab algn="l" pos="0"/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163680" y="11842560"/>
            <a:ext cx="17867160" cy="1179756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163680" y="24761160"/>
            <a:ext cx="17867160" cy="1179756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E8F0-2E9B-4BEA-8BAB-4253F177B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163680" y="3660480"/>
            <a:ext cx="35736120" cy="685620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ctr">
            <a:noAutofit/>
          </a:bodyPr>
          <a:p>
            <a:pPr indent="0" algn="ctr">
              <a:buNone/>
              <a:tabLst>
                <a:tab algn="l" pos="0"/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163680" y="11842560"/>
            <a:ext cx="8718840" cy="1179756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318840" y="11842560"/>
            <a:ext cx="8718840" cy="1179756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163680" y="24761160"/>
            <a:ext cx="8718840" cy="1179756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12318840" y="24761160"/>
            <a:ext cx="8718840" cy="1179756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288D-0867-49A3-BA2C-850DBB7C1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163680" y="3660480"/>
            <a:ext cx="35736120" cy="685620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ctr">
            <a:noAutofit/>
          </a:bodyPr>
          <a:p>
            <a:pPr indent="0" algn="ctr">
              <a:buNone/>
              <a:tabLst>
                <a:tab algn="l" pos="0"/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163680" y="11842560"/>
            <a:ext cx="5753160" cy="1179756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204840" y="11842560"/>
            <a:ext cx="5753160" cy="1179756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5246000" y="11842560"/>
            <a:ext cx="5753160" cy="1179756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163680" y="24761160"/>
            <a:ext cx="5753160" cy="1179756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9204840" y="24761160"/>
            <a:ext cx="5753160" cy="1179756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15246000" y="24761160"/>
            <a:ext cx="5753160" cy="1179756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F089-CBE9-4805-AF02-57964BFC2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63680" y="3660480"/>
            <a:ext cx="35736120" cy="685620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ctr">
            <a:noAutofit/>
          </a:bodyPr>
          <a:p>
            <a:pPr indent="0" algn="ctr">
              <a:buNone/>
              <a:tabLst>
                <a:tab algn="l" pos="0"/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163680" y="11842560"/>
            <a:ext cx="17867160" cy="2473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6751-D6AF-4A0E-9711-17CE728F4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63680" y="3660480"/>
            <a:ext cx="35736120" cy="685620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ctr">
            <a:noAutofit/>
          </a:bodyPr>
          <a:p>
            <a:pPr indent="0" algn="ctr">
              <a:buNone/>
              <a:tabLst>
                <a:tab algn="l" pos="0"/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163680" y="11842560"/>
            <a:ext cx="17867160" cy="2473308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DD52-579C-4E0E-9152-7437A70A7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63680" y="3660480"/>
            <a:ext cx="35736120" cy="685620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ctr">
            <a:noAutofit/>
          </a:bodyPr>
          <a:p>
            <a:pPr indent="0" algn="ctr">
              <a:buNone/>
              <a:tabLst>
                <a:tab algn="l" pos="0"/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163680" y="11842560"/>
            <a:ext cx="8718840" cy="2473308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12318840" y="11842560"/>
            <a:ext cx="8718840" cy="2473308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3ADF-238A-4F90-AE91-06E8F1269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63680" y="3660480"/>
            <a:ext cx="35736120" cy="685620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ctr">
            <a:noAutofit/>
          </a:bodyPr>
          <a:p>
            <a:pPr indent="0" algn="ctr">
              <a:buNone/>
              <a:tabLst>
                <a:tab algn="l" pos="0"/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A105-CA5D-4344-8076-ED6C2A0E8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163680" y="3660480"/>
            <a:ext cx="35736120" cy="317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ED99-86AD-4A76-914D-CCEDB5C50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63680" y="3660480"/>
            <a:ext cx="35736120" cy="685620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ctr">
            <a:noAutofit/>
          </a:bodyPr>
          <a:p>
            <a:pPr indent="0" algn="ctr">
              <a:buNone/>
              <a:tabLst>
                <a:tab algn="l" pos="0"/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163680" y="11842560"/>
            <a:ext cx="8718840" cy="1179756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12318840" y="11842560"/>
            <a:ext cx="8718840" cy="2473308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163680" y="24761160"/>
            <a:ext cx="8718840" cy="1179756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0FA5-2B87-4AD0-97F3-4B286F935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163680" y="3660480"/>
            <a:ext cx="35736120" cy="685620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ctr">
            <a:noAutofit/>
          </a:bodyPr>
          <a:p>
            <a:pPr indent="0" algn="ctr">
              <a:buNone/>
              <a:tabLst>
                <a:tab algn="l" pos="0"/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163680" y="11842560"/>
            <a:ext cx="8718840" cy="2473308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12318840" y="11842560"/>
            <a:ext cx="8718840" cy="1179756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318840" y="24761160"/>
            <a:ext cx="8718840" cy="1179756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2F1E-B4A7-4FF6-B3EC-D72F4AAE8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163680" y="3660480"/>
            <a:ext cx="35736120" cy="685620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ctr">
            <a:noAutofit/>
          </a:bodyPr>
          <a:p>
            <a:pPr indent="0" algn="ctr">
              <a:buNone/>
              <a:tabLst>
                <a:tab algn="l" pos="0"/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163680" y="11842560"/>
            <a:ext cx="8718840" cy="1179756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318840" y="11842560"/>
            <a:ext cx="8718840" cy="1179756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163680" y="24761160"/>
            <a:ext cx="17867160" cy="1179756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E3FD-0473-4834-985F-B3B5E487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3680" y="3660480"/>
            <a:ext cx="35736120" cy="685620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ctr">
            <a:noAutofit/>
          </a:bodyPr>
          <a:p>
            <a:pPr indent="0" algn="ctr">
              <a:buNone/>
              <a:tabLst>
                <a:tab algn="l" pos="0"/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3680" y="11842560"/>
            <a:ext cx="17867160" cy="2473308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marL="608040" indent="-6080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316160" indent="-506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2019240" indent="-3999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2832120" indent="-40788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3641760" indent="-4050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5" marL="3641760" indent="-4050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6" marL="3641760" indent="-4050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3680" y="37486800"/>
            <a:ext cx="8762760" cy="274788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  <a:defRPr b="0" lang="en-US" sz="2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74800" y="37486800"/>
            <a:ext cx="13314240" cy="274788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  <a:defRPr b="0" lang="en-US" sz="2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37040" y="37486800"/>
            <a:ext cx="8763120" cy="274788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  <a:defRPr b="0" lang="en-US" sz="2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fld id="{70C67A8B-FC78-4343-A397-94F7611DAD9A}" type="slidenum">
              <a:rPr b="0" lang="en-US" sz="2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590000" y="23402880"/>
            <a:ext cx="1712880" cy="394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hyperlink" Target="http://biocyc.org/otherpgdbs.shtml" TargetMode="External"/><Relationship Id="rId5" Type="http://schemas.openxmlformats.org/officeDocument/2006/relationships/hyperlink" Target="http://biocyc.org/query.shtml" TargetMode="External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089240" y="279360"/>
            <a:ext cx="3329964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5080" rIns="145080" tIns="72720" bIns="727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An Advanced Web Query Interface for Biological Databases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9320" y="1714680"/>
            <a:ext cx="26406360" cy="20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5080" rIns="145080" tIns="72720" bIns="727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Arial"/>
              </a:rPr>
              <a:t>Peter D. Karp, Mario Latendress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Arial"/>
                <a:ea typeface="Times New Roman"/>
              </a:rPr>
              <a:t>Bioinformatics Research Group, SRI International, Menlo Park CA USA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Arial"/>
              </a:rPr>
              <a:t>bioinformatics.ai.sri.com/ptools/          BioCyc.org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97040" y="5915160"/>
            <a:ext cx="12538080" cy="122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5080" rIns="145080" tIns="72720" bIns="72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thway Tool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oftware [1] is used to create, query, curate, and analyze Pathway/Genome Databases (PGDBs). A PGDB integrates information about genomes, metabolic pathways, and regulatory networks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thway Tools operations includ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4880" indent="-325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Query and update genome and pathway annot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4880" indent="-325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ediction of metabolic network from genome seque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4880" indent="-325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isual analysis of omics datase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4880" indent="-325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mparative analysi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4880" indent="-325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twork analysis and debugg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large number of PGDBs are accessible on the Internet from Pathway Tools based Web sites that provide the exploration capabilities described her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thway Tools Availabil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4880" indent="-325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reely available to academics and non-profits.  Licensed by 2,100 group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4880" indent="-325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uns on PC/Linux, PC/Windows, Macintosh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4880" indent="-325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ferenc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[1] Karp, P.D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t a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Briefings in Bioinformatic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2010 11:40-79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[2] Latendresse, M. and Karp, P.D.,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Databas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2010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4880" indent="-325440"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upported by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grants GM75742 and GM080746 from the National Institutes of Health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19973880"/>
            <a:ext cx="20043720" cy="19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5080" rIns="145080" tIns="72720" bIns="72720" anchor="t">
            <a:spAutoFit/>
          </a:bodyPr>
          <a:p>
            <a:pPr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3299280" y="736560"/>
            <a:ext cx="2022480" cy="1575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8273320" y="4876920"/>
            <a:ext cx="12669840" cy="605160"/>
          </a:xfrm>
          <a:prstGeom prst="rect">
            <a:avLst/>
          </a:prstGeom>
          <a:solidFill>
            <a:srgbClr val="ebc4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4. Pathway/Genome Databases on the Interne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071760" y="4902120"/>
            <a:ext cx="10555200" cy="605160"/>
          </a:xfrm>
          <a:prstGeom prst="rect">
            <a:avLst/>
          </a:prstGeom>
          <a:solidFill>
            <a:srgbClr val="ebc4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2. Structured Advanced Query For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052720" y="17915040"/>
            <a:ext cx="0" cy="8659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134040" y="2482920"/>
            <a:ext cx="2691000" cy="93672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429240" y="1028880"/>
            <a:ext cx="2097360" cy="88416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990720" y="4800600"/>
            <a:ext cx="11353680" cy="605160"/>
          </a:xfrm>
          <a:prstGeom prst="rect">
            <a:avLst/>
          </a:prstGeom>
          <a:solidFill>
            <a:srgbClr val="ebc4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1.  Introduc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194120" y="5991120"/>
            <a:ext cx="12769560" cy="97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5080" rIns="145080" tIns="72720" bIns="72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vailable PGDBs  include the following.  Web links to all available from </a:t>
            </a:r>
            <a:r>
              <a:rPr b="0" lang="en-US" sz="3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ttp://BioCyc.org/otherpgdbs.shtm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r find them using Goog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icrobi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ioCyc – 670 microbial PGDBs including EcoCyc (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. col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K-12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oCyc – 33 Bioenergy organis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oCyc –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Streptomyces coelicol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BCyc –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Mycobacterium tuberculosi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seudoCyc –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Pseudomonas aeruginos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TRIC – Bacterial pathoge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iCyc – 8 apicomplexan PGDB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ung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eastCyc –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Saccharomyces cerevisia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lbiCyc –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andida albica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Cyc – 7 Solanacea PGDB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lamyCyc –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hlamydomonas reinhardti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aCyc –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rabidopsis thalian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ceCyc –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Oryza sativ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antCyc – General plant PGDB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ammalia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useCyc, HumanCyc, CattleCy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9040" y="428760"/>
            <a:ext cx="287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ster E02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555560" y="428760"/>
            <a:ext cx="419400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eter Kar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RI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333 Ravenswood Ave, Menlo Park CA 940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650-859-435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360400" y="6102360"/>
            <a:ext cx="12080880" cy="83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5080" rIns="145080" tIns="72720" bIns="72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ing precise and complicated queries against biological databases (DBs) usually requires programming skil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Web-based DB query forms are quite restricted in power of queries they can suppor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thway Tools Structured Advanced Query Form (SAQP)  [2]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4880" indent="-325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r friendl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4880" indent="-325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ports precise and complicated queri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4880" indent="-325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ports multiple conditions and connectiv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4880" indent="-325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ports connections between object typ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4880" indent="-325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hema drive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4880" indent="-325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ractive documentation on DB schem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4880" indent="-325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re to find the SAQP on the Web: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4880" indent="-325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http://biocyc.org/query.shtm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4880" indent="-325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arch -&gt; Advanced at any Pathway Tools driven Web si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4880" indent="-325440"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2362320" y="19964520"/>
            <a:ext cx="9239040" cy="11439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2438280" y="32489640"/>
            <a:ext cx="9172800" cy="8429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8"/>
          <a:stretch/>
        </p:blipFill>
        <p:spPr>
          <a:xfrm>
            <a:off x="14935320" y="19354680"/>
            <a:ext cx="10515600" cy="113252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9"/>
          <a:stretch/>
        </p:blipFill>
        <p:spPr>
          <a:xfrm>
            <a:off x="15468480" y="31470480"/>
            <a:ext cx="9734760" cy="9601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0"/>
          <a:stretch/>
        </p:blipFill>
        <p:spPr>
          <a:xfrm>
            <a:off x="29184480" y="19345320"/>
            <a:ext cx="9239400" cy="11439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1"/>
          <a:stretch/>
        </p:blipFill>
        <p:spPr>
          <a:xfrm>
            <a:off x="29260800" y="31699080"/>
            <a:ext cx="9229680" cy="8163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066680" y="30632400"/>
            <a:ext cx="685800" cy="2133720"/>
          </a:xfrm>
          <a:custGeom>
            <a:avLst/>
            <a:gdLst>
              <a:gd name="textAreaLeft" fmla="*/ 91800 w 685800"/>
              <a:gd name="textAreaRight" fmla="*/ 594000 w 685800"/>
              <a:gd name="textAreaTop" fmla="*/ 373320 h 2133720"/>
              <a:gd name="textAreaBottom" fmla="*/ 154692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7812880" y="30022920"/>
            <a:ext cx="685800" cy="2133360"/>
          </a:xfrm>
          <a:custGeom>
            <a:avLst/>
            <a:gdLst>
              <a:gd name="textAreaLeft" fmla="*/ 91800 w 685800"/>
              <a:gd name="textAreaRight" fmla="*/ 594000 w 685800"/>
              <a:gd name="textAreaTop" fmla="*/ 373320 h 2133360"/>
              <a:gd name="textAreaBottom" fmla="*/ 1546920 h 2133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792320" y="30022920"/>
            <a:ext cx="685800" cy="2133360"/>
          </a:xfrm>
          <a:custGeom>
            <a:avLst/>
            <a:gdLst>
              <a:gd name="textAreaLeft" fmla="*/ 91800 w 685800"/>
              <a:gd name="textAreaRight" fmla="*/ 594000 w 685800"/>
              <a:gd name="textAreaTop" fmla="*/ 373320 h 2133360"/>
              <a:gd name="textAreaBottom" fmla="*/ 1546920 h 2133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8120" y="18288000"/>
            <a:ext cx="807696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initial quer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Compounds whose molecular weight is between 400 and 4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a result table that includes the compound name, chemical formula, and molecular we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849720" y="17814960"/>
            <a:ext cx="80769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dditional condition to previous quer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ultivalued slot Regulates, which lists regulation interactions that the compound regulates, must have more than 0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0" y="17221320"/>
            <a:ext cx="807732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two additional conditions to previous quer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gulation interaction must have a parent class whose name includes the string “enzym”, indicating that it involves regulation of enzyme 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de of regulation must be positive (activ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3868280" y="16382880"/>
            <a:ext cx="12669840" cy="605160"/>
          </a:xfrm>
          <a:prstGeom prst="rect">
            <a:avLst/>
          </a:prstGeom>
          <a:solidFill>
            <a:srgbClr val="ebc4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3. Example Queries and Their Resul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7T11:57:24Z</dcterms:created>
  <dc:creator>Peter Karp</dc:creator>
  <dc:description/>
  <dc:language>en-US</dc:language>
  <cp:lastModifiedBy>GMOD / NESCent</cp:lastModifiedBy>
  <cp:lastPrinted>2000-09-13T00:15:44Z</cp:lastPrinted>
  <dcterms:modified xsi:type="dcterms:W3CDTF">2010-07-15T16:19:48Z</dcterms:modified>
  <cp:revision>194</cp:revision>
  <dc:subject/>
  <dc:title>EcoCyc/MetaCyc Poster</dc:title>
</cp:coreProperties>
</file>